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B1A-5896-4E77-B6B4-F5E86416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4D4-6512-441A-8A39-815E706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518-50FA-4234-81CC-9D359B35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07D-EB6D-4E36-9C6D-A050AA26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DCF-3BA3-4BDB-B8E3-0C31F80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609-4A43-47C0-AE90-3089807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22B-0E86-499F-868A-1D5B55A0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767-515A-40EE-BB4F-C980A24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28C-A816-40D5-A1DC-298E013C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371-23AE-4279-BFC0-50B1B89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ADC-5E8D-4C99-B94A-E044B45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BCD-79D3-4E1C-8EBC-D64B11D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DC9-7BA7-4A6E-BB68-3616B078BBB2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Arial"/>
              </a:rPr>
              <a:t>O esgotamento dos recursos naturais como limite ao crescim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mos então concluir-se que independentemente do grau de desenvolvimento das sociedades, os modelos de crescimento com base na exploração dos recursos naturais provocaram um ciclo de degradação e destruição de todo o ecossistema Terra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ndo “capital ambiental” (ar, solo, água, vida e energia) essencial para vida humana e para a sobrevivência do sistema económico será obrigatório repensar os sistemas actuais e procurar medidas alternativas para assegurar o sucesso das gerações seguintes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00"/>
                </a:solidFill>
                <a:latin typeface="Arial"/>
              </a:rPr>
              <a:t>Efeitos negativos do crescimento e do desenvolvimento a nível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gotamento dos s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mitação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cessivo consumo de matérias-primas não renováveis e exploração dos produtos primários cada vez mais esca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capacidade da tecnologia para equilibrar uma sociedade não sustentável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que fazer para manter o equilíb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ensar o uso do “capital ambient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tar pela 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tilização de estratégias que procurem a manutenção dos recursos na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mas consequências do desenvolvimento e crescimento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minuição das flor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umento das lixei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luição atmosférica e da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liferação das cidades e do be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gotamento dos recursos não renov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Mudança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equências do desenvolvimento na natu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2411280" y="2349360"/>
          <a:ext cx="417204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349360"/>
                    <a:ext cx="4172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usas humanas da mudança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ecimento popul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escim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udanç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uncionamento da economic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á gestão dos recursos na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gotamento d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556000" y="2205000"/>
          <a:ext cx="395928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05000"/>
                    <a:ext cx="3959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gotamento d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1042920" y="1643040"/>
          <a:ext cx="6985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3040"/>
                    <a:ext cx="6985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limites impostos pel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abuso e destruição dos recursos naturais do nosso planeta pela mão do homem podem contribuir a curto prazo para o esgotamento dos recursos não renováveis da Ter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ndo estes desastres claramente provocados pela mão do Homem, será urgente criar e estabelecer limites para o uso e abuso destes recursos indispensáveis à sobrevivência da população mundial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8:28:14Z</dcterms:created>
  <dc:creator>Escola Secundária José Gomes Ferreira</dc:creator>
  <dc:description/>
  <dc:language>en-US</dc:language>
  <cp:lastModifiedBy>hp</cp:lastModifiedBy>
  <dcterms:modified xsi:type="dcterms:W3CDTF">2008-07-10T12:03:02Z</dcterms:modified>
  <cp:revision>6</cp:revision>
  <dc:subject/>
  <dc:title>O esgotamento dos recursos naturais como limite ao crescimento</dc:title>
</cp:coreProperties>
</file>